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292-D7EB-4D9F-A9FB-A17E2C19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9E9-D755-48CA-8920-52DF5ECD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29A-6CFF-4C30-BFED-DA2B7A72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7116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18800" y="14475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7116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18800" y="36763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201-CEF3-402A-9319-CC0F5211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68B4-F14D-43C6-9005-C06E42D3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399-74A4-4F05-9DE0-029D95E6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2CF-A45A-4D36-BE76-177E5DF8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2B7-C558-4DDD-907C-3834B0F8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228600"/>
            <a:ext cx="6172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C55-DFBB-4C3C-8382-B916DE71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A67-AA3B-454A-90C2-2D64248F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3320" y="367632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52A-EFEB-4310-9BFD-09621D23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3320" y="1447560"/>
            <a:ext cx="35326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676320"/>
            <a:ext cx="7239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286-B81B-4B0D-B5F4-D199C278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2507-1B71-43AD-8404-4BEBFFAEE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6002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TD Mercury Accounting Modu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83E-0F81-4BA8-845D-090D79D62AC0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05120" y="2590920"/>
            <a:ext cx="53337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3880" y="1219320"/>
            <a:ext cx="6629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tart and end date for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how balance report shall be printed, Summary vs.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4EF3-4617-49B1-9D13-2DEE0D44FF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5634000" cy="410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2E16-9139-48C8-A49A-2FC0E3FFA4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Quickbook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14720" y="1447920"/>
            <a:ext cx="5857560" cy="426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7924680" y="5486400"/>
            <a:ext cx="53352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739-EB99-4D83-B48B-7EA06DBBA3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ta in Quickboo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990720"/>
            <a:ext cx="7239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E sales are exported by sale date of transac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 sales are export by z-out date if the z-out date is different than the sale dat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dividual sale data is not exported to Quickbook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is exported only as daily totals for each day in the date range selected.  Detail is found in FTD Mercury Reports (Mercury Form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ily totals include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sh &amp; checks receiv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edit cards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use account activ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livery &amp; service charge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duct category of the items on or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A01-8D1C-44A2-9D19-FD0147FEA2C7}" type="slidenum">
              <a:t>13</a:t>
            </a:fld>
          </a:p>
        </p:txBody>
      </p:sp>
    </p:spTree>
  </p:cSld>
  <p:transition>
    <p:comb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543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3080" y="1676160"/>
            <a:ext cx="194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ies for Aug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23880" y="1600200"/>
            <a:ext cx="4827600" cy="384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6552360" y="1981080"/>
            <a:ext cx="83844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400800" y="3962520"/>
            <a:ext cx="83808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E86-8E1D-4E18-B3A8-1F9810D891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ournal Entries in Quickbooks Explaine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$100 or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D Merc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lower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$59.99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ishables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59.9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colat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12.95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d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2.9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20.00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livery Income    $20.0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$7.06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Tax Payable $7.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sh Paid $10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ank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ers are part of the ‘Perishables’ product catego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colate is part of the ‘Candy’ product categ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22096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27432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19720" y="31240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58128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96252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4343400"/>
            <a:ext cx="76176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91D-A49D-4CDA-B406-2DC6DEEE35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ndling Wire Orders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on wire ord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ing flori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selling commission of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ing flor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for product &amp; delivery less the sending florist commission and wire service commission of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5B9-C982-443E-84EC-FD3E99F90E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Wire Orders Appear in Quickbook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payment of wire order is transferred into Accounts Receiv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of sales of product category f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 Payment from custo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0%) Product &amp; Delivery (Outgoing s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0%) Accounts Payable F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80% that is paid to FTD on outgoing 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C29-96E0-4DE9-8EE5-89C0C863E6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ust make journal entries in Quickbooks to account for what you are actually paid on wire ord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entries are already made in Quickboo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Payable  (80% paid to FTD on outgo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(100% of amount received over the wire on incoming or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085-33CF-4666-8F5E-58B8EE4704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ntries will you have to make in Quickboo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ommissions Expense (20% kept by sending florist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dvance Expense (7% commission to FTD taken on an incoming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ments and other charges for wire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wire service expenses and cred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764-8B51-4C88-BF7F-3E36F1D00F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 Basic Concep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 of data is transferred\exported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TD Mercury exports sales data to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e FTD Mercury sales data appears in Quick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handle the payment of wire orders from your monthly clearinghouse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A5E-218A-45D5-A1E8-F9D8F6CA3F21}" type="slidenum">
              <a:t>2</a:t>
            </a:fld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&amp; Clearing House Stat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’s look at an FTD Clearing House Statem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ection B from the Clearing House Statement page labeled ‘ FTD Member Activity Statement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not use the amount listed for Section B from the Statement Summary P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ummary page does not show the amounts that you need to enter for  ‘Commission Expense’ and ‘Wire Service Commission’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EA3-14C1-441B-9B85-DEFF7342B9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mber Activity Statement – Section B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95520" y="1886040"/>
            <a:ext cx="70945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8683-DD28-4D39-AE04-448290048B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95880" cy="292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4267080"/>
            <a:ext cx="769608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Add all 20 % commissions given for incoming orders. This is your ‘Commissions Expen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Clearing House &amp; Marketing Advance is the ‘ Wire Service Commission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329-02A0-440E-8C95-6653FA439C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Incom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example,  FTD wire service commission equals $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‘Wire Commission Expense’ 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3.4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44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5791320" cy="2768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6" name=""/>
          <p:cNvSpPr/>
          <p:nvPr/>
        </p:nvSpPr>
        <p:spPr>
          <a:xfrm flipH="1">
            <a:off x="6781680" y="243828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781680" y="27432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781680" y="3429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A72-F561-4DFF-86B8-D21A413E51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ing 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 F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37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to Sending Flor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7.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Wire Com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.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B1F-3A0A-4520-BE77-9F1178489D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4343400"/>
            <a:ext cx="7696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Subtract all 20 % commissions earned for the amount listed above for outgoing orders. This is the 80% paid to FTD on outgoing orders. This amount has already been calculated for you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74E-F8AE-4150-B5A6-A5BE65D94F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– Outgoing Ord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6248160" cy="300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924680" y="213372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4343400"/>
            <a:ext cx="769608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n this example FTD accounts payable total is </a:t>
            </a:r>
            <a:r>
              <a:rPr b="1" lang="en-US" sz="2200" spc="-1" strike="noStrike">
                <a:solidFill>
                  <a:srgbClr val="000000"/>
                </a:solidFill>
                <a:latin typeface="Arial Unicode MS"/>
              </a:rPr>
              <a:t>$1992.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8.00 –     5.60 =    22.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2409.00 - 481.80 = 1972.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715000" y="4724280"/>
            <a:ext cx="2209680" cy="3812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638680" y="4724280"/>
            <a:ext cx="2286000" cy="83844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0AF-EAD0-403B-8BB7-7210942FA2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ickbooks Journal Entri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utgoing Ord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bi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Accts Pay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TD Clearing Accou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2.6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8BD-06C4-49E2-9FBC-804E440A82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tion B Adjustment &amp; other char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have to additional entries for adjustments, taxes or Retrans char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ntries should be made to the appropriate accounts of your ch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B7D-6EAD-4580-A9E9-EB5C861A13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ther Wire Expenses &amp; Credi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order related expenses and rebates will appear in other sections of the clearing hous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hould be entered into Quickbooks to accounts of your ch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need to create additional accounts in Quickbooks to track these expenses and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E96-F412-499C-9982-2AB730EBF2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eligible for expor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ENTERED INTO THE SYSTEM THAT MEETS THE CRITERI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8E2F-4945-4424-8EA8-544088C1D445}" type="slidenum">
              <a:t>3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Clearing Accou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earing account can be used to ensure all entries you make in Quickbooks are accu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books follows GAAP Generally Accepted Accounting Princi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s that you make an offsetting journal entry when entering in expenses and cred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ring account for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599-4816-426A-AC10-77D7DAD4F4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you make an entry for 20% commissions given on incoming orders you would offset this entry against the clearing accou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ll expenses and credit are offset to the same clearing account this ensures the entries are made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all activity has been entered from the clearing house statement and offset to the clearing account, the remaining balance on the clearing account will represent a amount that is owed to FTD or a check received from F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6D2-0EB0-4306-A747-7D30A618C8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a Clearing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mount that remains in the clearing account received should match the amount showing on the clearing house stat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lly once a check has been deposited from FTD or and check written to FTD that entry will be made against the clearing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entry will clear the balance in the clearing accoun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4C6-BA1A-4420-8330-53480D6051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!!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9DA-2654-47D1-B3A6-68CFCCEA11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iteria For Data: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mpleted Order Entry  &amp; Point Of Sa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OS sales in a closed POS session (z-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account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s entered from ‘Manual Ticket’ window (Credit &amp; debit me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e 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A6A-8402-4302-84D1-7286A4F98699}" type="slidenum">
              <a:t>4</a:t>
            </a:fld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rt of Accounts Setu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5638680" cy="3636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5486400" y="22860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D9B-2721-4348-BF57-669E98AF1C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art of Account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 of accounts creates the Quickbooks company file where data will be ex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 also transfers any changes made in FTD Mercury that will affect the structure of the Quickbooks company file. i.e. creating a new product categ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make decisions on how you want certain types of information to transfer to Quick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E9D-7E02-4C58-8AB7-5F46E0EFEC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 Setup: What You Must Consid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 Store Setu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mpany file for all vs. separate company file for e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sh Depos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ash holding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dit Card depos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account vs. credit card holding account (Accounts Re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id Outs &amp; In from P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ng expense vs. Cost of Goods S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A5D-52E3-42C8-8B7D-C7B8A5A4A7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rt of Accounts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itional Featur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dditional bank accou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beginning date for the ex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\change GL account numb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310-4159-4FE4-89D7-73CF00C2D6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orting to Quickboo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s exported (transferred) to Quickbooks through the Balance Wizard option from Account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438280" y="2438280"/>
            <a:ext cx="5105520" cy="329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>
            <a:off x="5638680" y="3657600"/>
            <a:ext cx="4572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6FB-5E76-4D33-B309-04B823D0EE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TAC3740</cp:lastModifiedBy>
  <cp:lastPrinted>2004-05-28T16:39:18Z</cp:lastPrinted>
  <dcterms:modified xsi:type="dcterms:W3CDTF">2008-10-09T18:36:51Z</dcterms:modified>
  <cp:revision>44</cp:revision>
  <dc:subject/>
  <dc:title>PowerPoint Presentation</dc:title>
</cp:coreProperties>
</file>